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DATTILO.WAV" ContentType="audio/x-wav"/>
  <Override PartName="/ppt/media/LASER.WAV" ContentType="audio/x-wav"/>
  <Override PartName="/ppt/media/PROMEMOR.WAV" ContentType="audio/x-wav"/>
  <Override PartName="/ppt/media/FOT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978-BDA1-4EFE-939D-0368C86F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5E9-1268-4165-8816-88442E7D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5EB-2C7B-4061-9AEF-E96E2C47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307-A3BE-4946-B3E0-0AE9FE47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8FD-51B2-47ED-AB7C-1377A73D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C03-494E-45D7-A350-DE382CE1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3E6-385D-474A-B7F4-3E2FDCA9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E6A-5F65-4B38-8213-02F0986C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548-5E8D-4065-9ED6-5A1E8317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8DF-0322-408E-A2D1-7EE9651C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DBC-29E2-46C2-8257-B55F75D7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F27-1D42-4141-933F-F112550D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D380-8045-4DA3-BD96-D5EBC612B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ATTILO.WAV"/><Relationship Id="rId3" Type="http://schemas.openxmlformats.org/officeDocument/2006/relationships/audio" Target="../media/DATTILO.WAV"/><Relationship Id="rId4" Type="http://schemas.openxmlformats.org/officeDocument/2006/relationships/audio" Target="../media/DATTILO.WAV"/><Relationship Id="rId5" Type="http://schemas.openxmlformats.org/officeDocument/2006/relationships/audio" Target="../media/DATTILO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MEM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cde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3048120"/>
            <a:ext cx="15242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81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5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3657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d0a6"/>
            </a:gs>
            <a:gs pos="50000">
              <a:srgbClr val="ccffcc"/>
            </a:gs>
            <a:gs pos="100000">
              <a:srgbClr val="a6d0a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743200"/>
            <a:ext cx="213336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464832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2133720"/>
            <a:ext cx="33530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630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719520"/>
            <a:ext cx="157320" cy="90360"/>
          </a:xfrm>
          <a:custGeom>
            <a:avLst/>
            <a:gdLst/>
            <a:ahLst/>
            <a:rect l="l" t="t" r="r" b="b"/>
            <a:pathLst>
              <a:path w="99" h="57">
                <a:moveTo>
                  <a:pt x="0" y="57"/>
                </a:moveTo>
                <a:lnTo>
                  <a:pt x="9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7195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5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19920" y="53341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809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86000" y="1219320"/>
            <a:ext cx="4572000" cy="4572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657600" y="1295280"/>
            <a:ext cx="50292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1523880"/>
            <a:ext cx="4572000" cy="457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5468760"/>
            <a:ext cx="152280" cy="15264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4630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3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943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1447920"/>
            <a:ext cx="15264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4880" y="3719520"/>
            <a:ext cx="317520" cy="184320"/>
          </a:xfrm>
          <a:custGeom>
            <a:avLst/>
            <a:gdLst/>
            <a:ahLst/>
            <a:rect l="l" t="t" r="r" b="b"/>
            <a:pathLst>
              <a:path w="200" h="116">
                <a:moveTo>
                  <a:pt x="200" y="0"/>
                </a:moveTo>
                <a:lnTo>
                  <a:pt x="0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4880" y="3719520"/>
            <a:ext cx="314640" cy="184320"/>
          </a:xfrm>
          <a:custGeom>
            <a:avLst/>
            <a:gdLst/>
            <a:ahLst/>
            <a:rect l="l" t="t" r="r" b="b"/>
            <a:pathLst>
              <a:path w="198" h="116">
                <a:moveTo>
                  <a:pt x="0" y="0"/>
                </a:moveTo>
                <a:lnTo>
                  <a:pt x="198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886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19076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2578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096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706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 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657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bd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43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5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523880"/>
            <a:ext cx="3962160" cy="495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6172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6095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19810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1905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6019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3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1752480"/>
            <a:ext cx="335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43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28954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876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2057400"/>
            <a:ext cx="380988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27892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MEM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rot="16200000">
            <a:off x="3886200" y="1676160"/>
            <a:ext cx="48006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1936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2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1936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22816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41972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6765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54100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20574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0574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77320" y="5867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867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1:31:05Z</dcterms:created>
  <dc:creator>Navispelog - 4° Reparto Fari</dc:creator>
  <dc:description/>
  <dc:language>en-US</dc:language>
  <cp:lastModifiedBy>CIL</cp:lastModifiedBy>
  <dcterms:modified xsi:type="dcterms:W3CDTF">2006-10-18T14:25:40Z</dcterms:modified>
  <cp:revision>49</cp:revision>
  <dc:subject/>
  <dc:title>MARICOLTURE</dc:title>
</cp:coreProperties>
</file>